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C22-4394-4248-A2DE-5D7C6735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EDF-2FEA-4C7B-8A8E-DDF472D2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67F-7C2E-4CE3-9CB4-01C9310B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D8D-B99A-401D-AD28-F58B9DC8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6AE-AE44-4300-9E74-D21902A1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A67-F79B-455F-B625-3F54B157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E36-43A0-4D8C-8864-FA0298D8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C48-1365-4442-A2A9-DB311939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A2D-3C98-4996-BF3C-4D85ABD1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85B-0661-4DD9-9BC8-FFDEEAD1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7D4-EFAD-43FD-A90A-9D86796B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CE6-4773-4919-88BD-BDBA1D6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108B-9F85-45E2-9A83-66F8ED54C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6520" y="0"/>
            <a:ext cx="63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3818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03200" y="380880"/>
            <a:ext cx="63090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9257"/>
          <a:stretch/>
        </p:blipFill>
        <p:spPr>
          <a:xfrm>
            <a:off x="914400" y="0"/>
            <a:ext cx="667548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3600" y="304920"/>
            <a:ext cx="481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8:22:55Z</dcterms:created>
  <dc:creator>Patrick J. Mooney</dc:creator>
  <dc:description/>
  <dc:language>en-US</dc:language>
  <cp:lastModifiedBy>Patrick J. Mooney</cp:lastModifiedBy>
  <dcterms:modified xsi:type="dcterms:W3CDTF">2010-11-14T18:33:41Z</dcterms:modified>
  <cp:revision>1</cp:revision>
  <dc:subject/>
  <dc:title>Slide 1</dc:title>
</cp:coreProperties>
</file>